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5031-EFD3-43B6-B1A2-1849D89A76C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ur task is to look at our school, our classes and decide where we can support our students in moving up the rubr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n look at  our kids and see how we can support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B44B-46E7-43B2-BB0E-A69E30D94CF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can look at what a 1 or a 2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can look at the examples that ACRARA g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then can look at what our students are doing and think about what support they n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60E5-C04B-4E78-9633-66EC622BB27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Calibri"/>
              </a:rPr>
              <a:t>The rubric shows what is expected next and gives examples that students could read to get an idea of what writing in paragraphs looks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1674-5ABB-4953-8A1B-85EB3EEB27B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is gives us the details of student results by criter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can look at students in a school in a class or even by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6809-57C2-4A2C-A07B-C92AC71CE4A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is is the example given by Phillip Holmes Smith and it is based on the narrative assess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t is not different to what you can get from the reports this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or those of you that are buying ‘Sreams’ it is done for 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4ABF-A14E-4D1A-9592-908205E5D1C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Year 7 NAPLAN Persuasive Writing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writing was assessed in 8 areas. I have created a table to show you what the students (as an average) actually achieved and what they need to learn n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is document could be used to forward plan writing strategies and learning intentions for term one next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upport taken directly from the marking gu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uld use the information from sources like Northern Territory writing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wiki has lots of information about persuasive wri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1D06-40D6-4FA0-9264-2B9257535D0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have this material around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on’t let’s just leave it t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601B-263A-4990-BC61-E78FF3193A5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often talk about what we have to do to improve the kids but what do we do to get our teachers to look at their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school owns thi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rom prep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re will be things we can all do as a school to build strength in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42AE-C2D3-426F-BC44-BA8EBEAE77A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etwork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5396-1FBF-44AF-9F8B-ED0643B99C3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tem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can see cohort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an use classes within schoo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Looking for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B34D-8BD4-4C11-9AD1-47124FEC426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D0E6-7BBD-45D2-8FD3-26CF3FA888E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Question 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is cohort School Answer is A – 25% had it correct c/f 59% of the state getting it corr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ee the spread of answers across the state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75% of cohort had the same incorrect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uld lead to believe that misconception – not taught / not understood by m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D35A-EC70-49AD-8D08-71AF2B2535E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059E-D0E1-4BDD-A1F8-68C87D92ACF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en you look at student results  - the raw score you can get a vels level although as with any conversion it only gives a feeling and not completely accur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F2EE-F7E9-4338-A0AA-6DE22D77F59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F66B-3AEC-4252-B3DA-6E0160ABEA9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se the materials that have been presented by Phillip Holmes Smith as a tool to navigate the process of looking at the data provided in Napl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to get into reports and then how to use t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ome schools are buying s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BD71-DECC-45A4-874E-992DDD28AA6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sing writing as a focus today because topic is supporting wri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B0ED-5BAF-44CE-B019-2FE8660F51B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range is the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Red is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653B-F34B-4F5E-960C-172FEDC1E26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t is 70 pages long and hopefully everyone brought the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an use it online or on the computer but each school should have at least one hard copy of the doc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FEDF-A949-432B-B017-7899C070A51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very genre or text type has a defined criteria for ma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arrative did and here is the one for Persuas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expect that students will be expected to write in the persuasive genre for at least 5 years to allow for the picture to be formed of student grow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deas are linked to the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haracters and settings instead of persuasive devi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t would be still good to use the narrative rubric for working with narratives (Don’t throw the baby out with the bathwater!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8E47-3CE7-4E7C-BE3A-63533C30BA7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FEA-8B4A-4E08-8234-32F7850F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9DC-D98F-47FA-99D2-27E2ACD6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2CD0-CF99-4962-8A1D-9853BDE7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30E9-089B-4922-B2E2-3EF45D83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A788-4DEB-4D76-8FD7-C1A26C29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3F1-87D7-4218-869E-A53BF580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7C21-2814-49CE-8815-90FA2E16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9B8-3D07-499F-BF85-8BE35CF1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DE7A-7643-457B-8F3F-EBB7E6DB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85D-5A3E-4B16-A1CE-DFC1DA6E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84D4-12FC-47CF-AC65-85CC88BB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CF67-1D2B-4CC1-9647-6318852E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1DA4-1173-4944-8666-800DE90201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reams.com.a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o Blame Analysis of Na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002040" y="835200"/>
            <a:ext cx="3595680" cy="594180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6445080" y="2112840"/>
            <a:ext cx="227988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ext structure (0 – 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 this school about 38% received a score of 1 but the majority 59%received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o improve the teachers need to move the 1s to 2 and the 2s to 3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4"/>
          <p:cNvCxnSpPr/>
          <p:nvPr/>
        </p:nvCxnSpPr>
        <p:spPr>
          <a:xfrm flipH="1" flipV="1">
            <a:off x="4115880" y="2618640"/>
            <a:ext cx="2431440" cy="5148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85" name="Straight Arrow Connector 6"/>
          <p:cNvCxnSpPr>
            <a:stCxn id="83" idx="1"/>
          </p:cNvCxnSpPr>
          <p:nvPr/>
        </p:nvCxnSpPr>
        <p:spPr>
          <a:xfrm flipH="1" flipV="1">
            <a:off x="4622400" y="2567880"/>
            <a:ext cx="1823040" cy="4388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TextBox 5"/>
          <p:cNvSpPr/>
          <p:nvPr/>
        </p:nvSpPr>
        <p:spPr>
          <a:xfrm>
            <a:off x="1332000" y="189000"/>
            <a:ext cx="678492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7030a0"/>
                </a:solidFill>
                <a:latin typeface="Arial"/>
              </a:rPr>
              <a:t>Our schools – a closer loo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69720" y="1050840"/>
            <a:ext cx="8483760" cy="546588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469800" y="290520"/>
            <a:ext cx="80517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xt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Skill focus: The organisation of the structural components of a persuasive text (introduction, body and conclusion) into an appropriate and effective text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do we suggest that this teacher or teachers  do to support these stud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31720" y="1527120"/>
            <a:ext cx="6362640" cy="5021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7030a0"/>
                </a:solidFill>
                <a:latin typeface="Calibri"/>
              </a:rPr>
              <a:t>The Student Response Report</a:t>
            </a:r>
            <a:br>
              <a:rPr sz="4000"/>
            </a:br>
            <a:r>
              <a:rPr b="0" lang="en-AU" sz="2800" spc="-1" strike="noStrike">
                <a:solidFill>
                  <a:srgbClr val="7030a0"/>
                </a:solidFill>
                <a:latin typeface="Calibri"/>
              </a:rPr>
              <a:t>(Writing Test – by criter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Straight Arrow Connector 10"/>
          <p:cNvCxnSpPr/>
          <p:nvPr/>
        </p:nvCxnSpPr>
        <p:spPr>
          <a:xfrm flipH="1" flipV="1">
            <a:off x="3336120" y="3318840"/>
            <a:ext cx="3722040" cy="118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4" name="TextBox 11"/>
          <p:cNvSpPr/>
          <p:nvPr/>
        </p:nvSpPr>
        <p:spPr>
          <a:xfrm>
            <a:off x="6991200" y="3003480"/>
            <a:ext cx="2152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030a0"/>
                </a:solidFill>
                <a:latin typeface="Calibri"/>
              </a:rPr>
              <a:t>Choose “Student Response Repor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14"/>
          <p:cNvCxnSpPr/>
          <p:nvPr/>
        </p:nvCxnSpPr>
        <p:spPr>
          <a:xfrm flipH="1" flipV="1">
            <a:off x="3501720" y="5628960"/>
            <a:ext cx="351216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6" name="TextBox 15"/>
          <p:cNvSpPr/>
          <p:nvPr/>
        </p:nvSpPr>
        <p:spPr>
          <a:xfrm>
            <a:off x="6991200" y="5265720"/>
            <a:ext cx="2152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030a0"/>
                </a:solidFill>
                <a:latin typeface="Calibri"/>
              </a:rPr>
              <a:t>Choose “Writing Test – by criteri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tle 1"/>
          <p:cNvSpPr/>
          <p:nvPr/>
        </p:nvSpPr>
        <p:spPr>
          <a:xfrm>
            <a:off x="0" y="29376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500" spc="-1" strike="noStrike">
                <a:solidFill>
                  <a:srgbClr val="7030a0"/>
                </a:solidFill>
                <a:latin typeface="Calibri"/>
              </a:rPr>
              <a:t>The Student Response Report (Writing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87520" y="846000"/>
            <a:ext cx="792468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C:\Users\00888204\AppData\Local\Temp\msohtmlclip1\01\clip_image001.png"/>
          <p:cNvPicPr/>
          <p:nvPr/>
        </p:nvPicPr>
        <p:blipFill>
          <a:blip r:embed="rId1"/>
          <a:stretch/>
        </p:blipFill>
        <p:spPr>
          <a:xfrm>
            <a:off x="900000" y="0"/>
            <a:ext cx="804708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can we assist teachers to think about using data like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houlder to shoulder ta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ran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Primary to Second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o owns the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9 months of the 24 month cycle is with previous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ooking for common misconceptions so that we can support students in achieving the best that they 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 approach to sustaining student outcomes in the long t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upportive and collegiate discussions between secondary schools and feeder primary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ata has to be generated by Secondary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reaking year 7 data into primary school cohorts can show the strengths and areas to work on at the primary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ur Data Table Sh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have you done with your Naplan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have you learnt from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ime to sh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w Gisborne, Gisborne, Romsey, Mt Maced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tem Analysis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769080" cy="4978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7236000" y="314172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hoose item Analysi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875640" y="4508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hoose class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10" idx="1"/>
          </p:cNvCxnSpPr>
          <p:nvPr/>
        </p:nvCxnSpPr>
        <p:spPr>
          <a:xfrm flipH="1" flipV="1">
            <a:off x="4426920" y="3212280"/>
            <a:ext cx="2809080" cy="389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3" name="Straight Arrow Connector 9"/>
          <p:cNvCxnSpPr/>
          <p:nvPr/>
        </p:nvCxnSpPr>
        <p:spPr>
          <a:xfrm flipH="1">
            <a:off x="4211280" y="4868640"/>
            <a:ext cx="2592720" cy="1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ading using item analys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Users\00888204\AppData\Local\Temp\msohtmlclip1\01\clip_image001.png"/>
          <p:cNvPicPr/>
          <p:nvPr/>
        </p:nvPicPr>
        <p:blipFill>
          <a:blip r:embed="rId1"/>
          <a:stretch/>
        </p:blipFill>
        <p:spPr>
          <a:xfrm>
            <a:off x="971640" y="1600200"/>
            <a:ext cx="720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we are looking 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00888204\AppData\Local\Temp\msohtmlclip1\01\clip_image001.png"/>
          <p:cNvPicPr/>
          <p:nvPr/>
        </p:nvPicPr>
        <p:blipFill>
          <a:blip r:embed="rId1"/>
          <a:stretch/>
        </p:blipFill>
        <p:spPr>
          <a:xfrm>
            <a:off x="539640" y="1557360"/>
            <a:ext cx="8145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7"/>
          <p:cNvSpPr/>
          <p:nvPr/>
        </p:nvSpPr>
        <p:spPr>
          <a:xfrm>
            <a:off x="7020000" y="2060640"/>
            <a:ext cx="720720" cy="504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7020000" y="2060640"/>
            <a:ext cx="720720" cy="504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ading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7093080" y="2205000"/>
            <a:ext cx="647640" cy="36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Users\00888204\AppData\Local\Temp\msohtmlclip1\01\clip_image001.png"/>
          <p:cNvPicPr/>
          <p:nvPr/>
        </p:nvPicPr>
        <p:blipFill>
          <a:blip r:embed="rId1"/>
          <a:stretch/>
        </p:blipFill>
        <p:spPr>
          <a:xfrm>
            <a:off x="539640" y="1328760"/>
            <a:ext cx="8280360" cy="5205240"/>
          </a:xfrm>
          <a:prstGeom prst="rect">
            <a:avLst/>
          </a:prstGeom>
          <a:ln w="0">
            <a:noFill/>
          </a:ln>
        </p:spPr>
      </p:pic>
      <p:sp>
        <p:nvSpPr>
          <p:cNvPr id="124" name="Oval 8"/>
          <p:cNvSpPr/>
          <p:nvPr/>
        </p:nvSpPr>
        <p:spPr>
          <a:xfrm>
            <a:off x="7093080" y="2205000"/>
            <a:ext cx="792000" cy="3603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6084720" y="2205000"/>
            <a:ext cx="5749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7093080" y="2708280"/>
            <a:ext cx="50328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11"/>
          <p:cNvSpPr/>
          <p:nvPr/>
        </p:nvSpPr>
        <p:spPr>
          <a:xfrm>
            <a:off x="6156360" y="2060640"/>
            <a:ext cx="431640" cy="13683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368360"/>
              <a:gd name="textAreaBottom" fmla="*/ 1347480 h 1368360"/>
            </a:gdLst>
            <a:ahLst/>
            <a:rect l="textAreaLeft" t="textAreaTop" r="textAreaRight" b="textAreaBottom"/>
            <a:pathLst>
              <a:path w="21600" h="68436">
                <a:moveTo>
                  <a:pt x="3600" y="0"/>
                </a:moveTo>
                <a:arcTo wR="3600" hR="3600" stAng="16200000" swAng="-5400000"/>
                <a:lnTo>
                  <a:pt x="0" y="64836"/>
                </a:lnTo>
                <a:arcTo wR="3600" hR="3600" stAng="10800000" swAng="-5400000"/>
                <a:lnTo>
                  <a:pt x="18000" y="68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pe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C:\Users\00888204\AppData\Local\Temp\msohtmlclip1\01\clip_image001.png"/>
          <p:cNvPicPr/>
          <p:nvPr/>
        </p:nvPicPr>
        <p:blipFill>
          <a:blip r:embed="rId1"/>
          <a:stretch/>
        </p:blipFill>
        <p:spPr>
          <a:xfrm>
            <a:off x="826920" y="1349280"/>
            <a:ext cx="7921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Grammar and Punct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Users\00888204\AppData\Local\Temp\msohtmlclip1\01\clip_image001.png"/>
          <p:cNvPicPr/>
          <p:nvPr/>
        </p:nvPicPr>
        <p:blipFill>
          <a:blip r:embed="rId1"/>
          <a:stretch/>
        </p:blipFill>
        <p:spPr>
          <a:xfrm>
            <a:off x="250920" y="1517760"/>
            <a:ext cx="889308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athema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00888204\AppData\Local\Temp\msohtmlclip1\01\clip_image001.png"/>
          <p:cNvPicPr/>
          <p:nvPr/>
        </p:nvPicPr>
        <p:blipFill>
          <a:blip r:embed="rId1"/>
          <a:stretch/>
        </p:blipFill>
        <p:spPr>
          <a:xfrm>
            <a:off x="1403280" y="1355760"/>
            <a:ext cx="68407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alibri"/>
              </a:rPr>
              <a:t>Where to from her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Term 4 wor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Guided Reading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– workshop  modelling and inclass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Literacy block Grade 1/2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- planning modelling inclass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Daily 5 and Cafe Menu Prep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- planning and inclass 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Spelling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– revisit after whole school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Term 4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Supporting Writers Workshop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ith Literacy Coordin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Follow up afterschool workshops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To be decide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Reading workshop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– Grade 5/6 planning and inclass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Friends and Books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– follow up with schools/ Ultra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Naplan analysis and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port 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s a group thing that we could take back to our schools to 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commendation for others to 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Practic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aplan Conversion to V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C:\Users\00888204\AppData\Local\Temp\msohtmlclip1\01\clip_image001.png"/>
          <p:cNvPicPr/>
          <p:nvPr/>
        </p:nvPicPr>
        <p:blipFill>
          <a:blip r:embed="rId1"/>
          <a:stretch/>
        </p:blipFill>
        <p:spPr>
          <a:xfrm>
            <a:off x="673200" y="1403280"/>
            <a:ext cx="744372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Phillip Holmes Smith </a:t>
            </a:r>
            <a:br>
              <a:rPr sz="3100"/>
            </a:b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Expected Growth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77840" y="1455840"/>
          <a:ext cx="7748640" cy="4655880"/>
        </p:xfrm>
        <a:graphic>
          <a:graphicData uri="http://schemas.openxmlformats.org/drawingml/2006/table">
            <a:tbl>
              <a:tblPr/>
              <a:tblGrid>
                <a:gridCol w="2271960"/>
                <a:gridCol w="2273040"/>
                <a:gridCol w="1019160"/>
                <a:gridCol w="1019160"/>
                <a:gridCol w="73080"/>
                <a:gridCol w="1092240"/>
              </a:tblGrid>
              <a:tr h="563400">
                <a:tc gridSpan="2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d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erac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3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r 3 -Yr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low Expected Grow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in Expected Grow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-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-9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-115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eded Expected Grow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9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1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 gridSpan="6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rowSpan="3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r 5 - Yr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low Expected Grow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4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4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5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in Expected Grow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.6-5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.1-5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.2-6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eded Expected Grow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5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5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6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 gridSpan="6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 rowSpan="3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r 7 - Yr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low Expected Grow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3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3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4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in Expected Grow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.7-3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5-4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.2-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eded Expected Grow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3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4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ays to Use Data  to Inform I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hillip Holmes Smith – </a:t>
            </a:r>
            <a:r>
              <a:rPr b="0" i="1" lang="en-AU" sz="2800" spc="-1" strike="noStrike">
                <a:solidFill>
                  <a:srgbClr val="000000"/>
                </a:solidFill>
                <a:latin typeface="Calibri"/>
              </a:rPr>
              <a:t>Coordin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ish Hyland </a:t>
            </a:r>
            <a:r>
              <a:rPr b="0" i="1" lang="en-AU" sz="2800" spc="-1" strike="noStrike">
                <a:solidFill>
                  <a:srgbClr val="000000"/>
                </a:solidFill>
                <a:latin typeface="Calibri"/>
              </a:rPr>
              <a:t>where to n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an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rimary to second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hillip Holmes Smi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reams.com.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ing Naplan data as an example of to use data to inform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.Writing criteria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. Marking Rubr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3. Response Repor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2094" t="11662" r="48992" b="35258"/>
          <a:stretch/>
        </p:blipFill>
        <p:spPr>
          <a:xfrm>
            <a:off x="127080" y="1403280"/>
            <a:ext cx="6710400" cy="4551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39400"/>
            <a:ext cx="91440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030a0"/>
                </a:solidFill>
                <a:latin typeface="Calibri"/>
              </a:rPr>
              <a:t>The Writing Criteria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Straight Arrow Connector 10"/>
          <p:cNvCxnSpPr/>
          <p:nvPr/>
        </p:nvCxnSpPr>
        <p:spPr>
          <a:xfrm flipH="1" flipV="1">
            <a:off x="3336120" y="3188520"/>
            <a:ext cx="3722040" cy="118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1" name="TextBox 11"/>
          <p:cNvSpPr/>
          <p:nvPr/>
        </p:nvSpPr>
        <p:spPr>
          <a:xfrm>
            <a:off x="6991200" y="2873520"/>
            <a:ext cx="2152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030a0"/>
                </a:solidFill>
                <a:latin typeface="Calibri"/>
              </a:rPr>
              <a:t>Choose “Writing Criteria Repor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14"/>
          <p:cNvCxnSpPr/>
          <p:nvPr/>
        </p:nvCxnSpPr>
        <p:spPr>
          <a:xfrm flipH="1">
            <a:off x="2082600" y="5653440"/>
            <a:ext cx="4931280" cy="118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TextBox 15"/>
          <p:cNvSpPr/>
          <p:nvPr/>
        </p:nvSpPr>
        <p:spPr>
          <a:xfrm>
            <a:off x="6991200" y="5257800"/>
            <a:ext cx="2152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030a0"/>
                </a:solidFill>
                <a:latin typeface="Calibri"/>
              </a:rPr>
              <a:t>Click on “Preview Report” to view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403280" y="1133640"/>
            <a:ext cx="6226200" cy="4198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55160"/>
            <a:ext cx="91440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030a0"/>
                </a:solidFill>
                <a:latin typeface="Calibri"/>
              </a:rPr>
              <a:t>The Writing Criteria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441440" y="1138320"/>
            <a:ext cx="701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1306440" y="5867280"/>
            <a:ext cx="6411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030a0"/>
                </a:solidFill>
                <a:latin typeface="Arial"/>
              </a:rPr>
              <a:t>The report makes little sense without understanding how the writing task is marked against the “Writing Marking Guid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6"/>
          <p:cNvCxnSpPr/>
          <p:nvPr/>
        </p:nvCxnSpPr>
        <p:spPr>
          <a:xfrm flipH="1" flipV="1">
            <a:off x="4562280" y="5182920"/>
            <a:ext cx="20880" cy="815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9" name="TextBox 6"/>
          <p:cNvSpPr/>
          <p:nvPr/>
        </p:nvSpPr>
        <p:spPr>
          <a:xfrm>
            <a:off x="166680" y="3732120"/>
            <a:ext cx="16207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7305840" y="2973240"/>
            <a:ext cx="126684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11"/>
          <p:cNvCxnSpPr/>
          <p:nvPr/>
        </p:nvCxnSpPr>
        <p:spPr>
          <a:xfrm flipV="1">
            <a:off x="825120" y="3276000"/>
            <a:ext cx="2632320" cy="60876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2" name="Straight Arrow Connector 15"/>
          <p:cNvCxnSpPr/>
          <p:nvPr/>
        </p:nvCxnSpPr>
        <p:spPr>
          <a:xfrm flipH="1">
            <a:off x="4571280" y="3124800"/>
            <a:ext cx="2685240" cy="25308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58840" y="1114560"/>
            <a:ext cx="6226200" cy="55782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55160"/>
            <a:ext cx="91440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030a0"/>
                </a:solidFill>
                <a:latin typeface="Calibri"/>
              </a:rPr>
              <a:t>The Writing Marking Rubr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09600" y="1138320"/>
            <a:ext cx="701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>
            <a:off x="2975040" y="1955880"/>
            <a:ext cx="1662120" cy="36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9"/>
          <p:cNvCxnSpPr/>
          <p:nvPr/>
        </p:nvCxnSpPr>
        <p:spPr>
          <a:xfrm flipH="1" flipV="1">
            <a:off x="4734720" y="2166120"/>
            <a:ext cx="18565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8" name="TextBox 10"/>
          <p:cNvSpPr/>
          <p:nvPr/>
        </p:nvSpPr>
        <p:spPr>
          <a:xfrm>
            <a:off x="6629400" y="1969920"/>
            <a:ext cx="2286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030a0"/>
                </a:solidFill>
                <a:latin typeface="Calibri"/>
              </a:rPr>
              <a:t>Click here to download the Writing Marking Ru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Writing Marking Rubr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027080" y="1100160"/>
            <a:ext cx="7039080" cy="4049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976320" y="5099040"/>
            <a:ext cx="70390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02:25:40Z</dcterms:created>
  <dc:creator>00888204</dc:creator>
  <dc:description/>
  <dc:language>en-US</dc:language>
  <cp:lastModifiedBy>00888204</cp:lastModifiedBy>
  <dcterms:modified xsi:type="dcterms:W3CDTF">2011-10-26T10:41:46Z</dcterms:modified>
  <cp:revision>5</cp:revision>
  <dc:subject/>
  <dc:title>Analysing Naplan</dc:title>
</cp:coreProperties>
</file>